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925F9-4EAE-4A2C-8F60-80E11E49F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4894-B428-4890-8B42-00F8ADD08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3FB36-9297-40A2-848D-511A23795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6AA5D-40B7-4374-89C8-B29E556C2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76C8-E1CD-410C-9E91-47F5D8B2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B4AF-9924-45C2-87E4-FAA4A00D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157B-A720-43F1-8240-A4728D8C4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C5B26-2472-4A92-8287-35C4877B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06922-A712-4A0A-A004-B097441E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AF43-4E2D-4968-956A-538D8E71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4C1C-9279-49E8-9EA5-8893694B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2C5E-F1D6-454A-8794-087ED8619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B4D0-CB05-4A0B-BECB-C676ABBB5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Make Your Senior Projects GREAT!</a:t>
            </a:r>
            <a:endParaRPr b="0" lang="en-US" sz="4400" spc="-1" strike="noStrike">
              <a:solidFill>
                <a:srgbClr val="000000"/>
              </a:solidFill>
              <a:latin typeface="Times New Roman"/>
            </a:endParaRPr>
          </a:p>
        </p:txBody>
      </p:sp>
      <p:sp>
        <p:nvSpPr>
          <p:cNvPr id="42" name=""/>
          <p:cNvSpPr/>
          <p:nvPr/>
        </p:nvSpPr>
        <p:spPr>
          <a:xfrm>
            <a:off x="1066680" y="4495680"/>
            <a:ext cx="7162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sley Huskins, Brevard High School</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rah Justice, Rosman High Scho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9" name="" descr=""/>
          <p:cNvPicPr/>
          <p:nvPr/>
        </p:nvPicPr>
        <p:blipFill>
          <a:blip r:embed="rId1"/>
          <a:srcRect l="0" t="0" r="2588" b="38717"/>
          <a:stretch/>
        </p:blipFill>
        <p:spPr>
          <a:xfrm>
            <a:off x="4724280" y="2438280"/>
            <a:ext cx="3962520" cy="4191120"/>
          </a:xfrm>
          <a:prstGeom prst="rect">
            <a:avLst/>
          </a:prstGeom>
          <a:ln w="12600">
            <a:solidFill>
              <a:srgbClr val="000000"/>
            </a:solidFill>
            <a:miter/>
          </a:ln>
        </p:spPr>
      </p:pic>
      <p:sp>
        <p:nvSpPr>
          <p:cNvPr id="60" name=""/>
          <p:cNvSpPr/>
          <p:nvPr/>
        </p:nvSpPr>
        <p:spPr>
          <a:xfrm>
            <a:off x="304920" y="990720"/>
            <a:ext cx="396216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Process</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99072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O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 to stud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to parent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685800" y="1295280"/>
            <a:ext cx="312408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 </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Rosman High Senior Project Handboo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pyrus"/>
                <a:ea typeface="Times New Roman"/>
              </a:rPr>
              <a:t>Rosman High Scho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pyrus"/>
                <a:ea typeface="Times New Roman"/>
              </a:rPr>
              <a:t>749 Pickens Hw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pyrus"/>
                <a:ea typeface="Times New Roman"/>
              </a:rPr>
              <a:t>Rosman, NC 2877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pyrus"/>
                <a:ea typeface="Times New Roman"/>
              </a:rPr>
              <a:t>(828) 862-428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pyrus"/>
                <a:ea typeface="Times New Roman"/>
              </a:rPr>
              <a:t>http://www.transylvania.k12.nc.us/schools/rhs/rhsindex.ht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4" name="banner5" descr=""/>
          <p:cNvPicPr/>
          <p:nvPr/>
        </p:nvPicPr>
        <p:blipFill>
          <a:blip r:embed="rId2"/>
          <a:stretch/>
        </p:blipFill>
        <p:spPr>
          <a:xfrm>
            <a:off x="380880" y="1066680"/>
            <a:ext cx="3733920" cy="5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Tw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of Inte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graph 1:  Describe the </a:t>
            </a:r>
            <a:r>
              <a:rPr b="1" lang="en-US" sz="2000" spc="-1" strike="noStrike">
                <a:solidFill>
                  <a:srgbClr val="000000"/>
                </a:solidFill>
                <a:latin typeface="Times New Roman"/>
                <a:ea typeface="Times New Roman"/>
              </a:rPr>
              <a:t>general</a:t>
            </a:r>
            <a:r>
              <a:rPr b="0" lang="en-US" sz="2000" spc="-1" strike="noStrike">
                <a:solidFill>
                  <a:srgbClr val="000000"/>
                </a:solidFill>
                <a:latin typeface="Times New Roman"/>
                <a:ea typeface="Times New Roman"/>
              </a:rPr>
              <a:t> area of interest of the project.  Explain why the topic was chosen and any prior knowledge of the top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graph 2:  Discuss the specific focus of the </a:t>
            </a:r>
            <a:r>
              <a:rPr b="1" lang="en-US" sz="2000" spc="-1" strike="noStrike">
                <a:solidFill>
                  <a:srgbClr val="000000"/>
                </a:solidFill>
                <a:latin typeface="Times New Roman"/>
                <a:ea typeface="Times New Roman"/>
              </a:rPr>
              <a:t>research</a:t>
            </a:r>
            <a:r>
              <a:rPr b="0" lang="en-US" sz="2000" spc="-1" strike="noStrike">
                <a:solidFill>
                  <a:srgbClr val="000000"/>
                </a:solidFill>
                <a:latin typeface="Times New Roman"/>
                <a:ea typeface="Times New Roman"/>
              </a:rPr>
              <a:t> only and the ideas to be included. List some of the resources to be u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graph 3:  Begin with a transition sentence that states specifically what the </a:t>
            </a:r>
            <a:r>
              <a:rPr b="1" lang="en-US" sz="2000" spc="-1" strike="noStrike">
                <a:solidFill>
                  <a:srgbClr val="000000"/>
                </a:solidFill>
                <a:latin typeface="Times New Roman"/>
                <a:ea typeface="Times New Roman"/>
              </a:rPr>
              <a:t>project</a:t>
            </a:r>
            <a:r>
              <a:rPr b="0" lang="en-US" sz="2000" spc="-1" strike="noStrike">
                <a:solidFill>
                  <a:srgbClr val="000000"/>
                </a:solidFill>
                <a:latin typeface="Times New Roman"/>
                <a:ea typeface="Times New Roman"/>
              </a:rPr>
              <a:t> will be. Include who is involved, potential cost, and time estimated to complete projec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graph 4: Explain and define plagiarism and the importance of avoiding the act. Give the consequences of plagiarizing.</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Thr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Project Advisory Boar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consist of faculty and staff members that have a wide knowledge of the stud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pprove Letters of Intent</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et over any concerns during the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Fou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ment Poste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 colorful and descriptiv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 topic titl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name in lower right hand corner of poste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er no smaller than 9” x 12” and no larger than 15” x 15”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This is everyone’s first impression of your Senior Project.  It will be displayed outside the Media Center for the whole school to see.  You want to make sure that it is a good representation of the quality of your project.  The focus of the sign is the project and what you will do.</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F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readed Research Paper!!!</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ven to ten typed pages, double-spaced. (2100-2700 word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ve sources </a:t>
            </a:r>
            <a:r>
              <a:rPr b="1" lang="en-US" sz="2200" spc="-1" strike="noStrike">
                <a:solidFill>
                  <a:srgbClr val="000000"/>
                </a:solidFill>
                <a:latin typeface="Times New Roman"/>
                <a:ea typeface="Times New Roman"/>
              </a:rPr>
              <a:t>minimum</a:t>
            </a:r>
            <a:r>
              <a:rPr b="0" lang="en-US" sz="2200" spc="-1" strike="noStrike">
                <a:solidFill>
                  <a:srgbClr val="000000"/>
                </a:solidFill>
                <a:latin typeface="Times New Roman"/>
                <a:ea typeface="Times New Roman"/>
              </a:rPr>
              <a:t>. (no general encyclopedias) Use variety of source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LA style documentation. (examples will be provided)</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mal title page. (see example)</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utline page with thesi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orks cited page.</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te Grading Rubric for paper is only one currently being used by Transylvania County.  We will add a new rubric each year.</a:t>
            </a:r>
            <a:endParaRPr b="0" lang="en-US" sz="2200" spc="-1" strike="noStrike">
              <a:solidFill>
                <a:srgbClr val="000000"/>
              </a:solidFill>
              <a:latin typeface="Times New Roman"/>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Si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Projec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ghteen minimum hours outside class work.</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g/journal documenting time, cost, task or activity.  (20 entries minimum)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your project is considered dangerous in any way (working with animals, working with machinery, etc), you must show proof of insurance.</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2860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otographic record of progress. But, all portfolios must include a picture of the student and both mento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ject due ONE WEEK before presentation.  Projects are due at the beginning of class. NO EXCEPTIONS.  When projects are turned in, projects are </a:t>
            </a:r>
            <a:r>
              <a:rPr b="1" lang="en-US" sz="2800" spc="-1" strike="noStrike">
                <a:solidFill>
                  <a:srgbClr val="000000"/>
                </a:solidFill>
                <a:latin typeface="Times New Roman"/>
                <a:ea typeface="Times New Roman"/>
              </a:rPr>
              <a:t>complete.</a:t>
            </a:r>
            <a:r>
              <a:rPr b="0" lang="en-US" sz="2800" spc="-1" strike="noStrike">
                <a:solidFill>
                  <a:srgbClr val="000000"/>
                </a:solidFill>
                <a:latin typeface="Times New Roman"/>
                <a:ea typeface="Times New Roman"/>
              </a:rPr>
              <a:t>  No work will be done after the due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me Requirements: 18 hou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vel time does not count toward project hour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urs spent toward research paper do not count towards project hou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tfolio does not count toward project hou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Sev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rtfoli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fore Seniors present at the Senior Boards, the judges will review the portfolios. These portfolios are an introduction to Senior Project and a first impression. They provide a “road map” of the process and progress of the projec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85800"/>
            <a:ext cx="7848720" cy="5867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includ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ring binder with clear plastic sleev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ver page for front of portfolio</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tle Pag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ble of Content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tter of Inten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earch Paper (clean copy—grade sheet is optional)</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Journal (20 entries with date, time, and description—minimum)</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ictorial Progress (include pictures of your mentors and you, dated with descrip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ntor Verification Forms with letters from Mento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other items that pertain to the project including receipts, blueprints, drafts, and acknowledgements to those involved.</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has heard of a </a:t>
            </a:r>
            <a:br>
              <a:rPr sz="4400"/>
            </a:br>
            <a:r>
              <a:rPr b="0" lang="en-US" sz="4400" spc="-1" strike="noStrike">
                <a:solidFill>
                  <a:srgbClr val="000000"/>
                </a:solidFill>
                <a:latin typeface="Times New Roman"/>
              </a:rPr>
              <a:t>Senior Project?</a:t>
            </a:r>
            <a:endParaRPr b="0" lang="en-US" sz="4400" spc="-1" strike="noStrike">
              <a:solidFill>
                <a:srgbClr val="000000"/>
              </a:solidFill>
              <a:latin typeface="Times New Roman"/>
            </a:endParaRPr>
          </a:p>
        </p:txBody>
      </p:sp>
      <p:sp>
        <p:nvSpPr>
          <p:cNvPr id="44" name=""/>
          <p:cNvSpPr/>
          <p:nvPr/>
        </p:nvSpPr>
        <p:spPr>
          <a:xfrm>
            <a:off x="1828800" y="3886200"/>
            <a:ext cx="5486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o is currently doing Projec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520" y="7617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Eigh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t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time is fifteen minut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al presentation eight to ten minutes followed by judges’ ques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is before a board of judges who are “experts” in the fie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5-6 judges (highest and lowest grades are thrown out and the remaining are avera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Nets for Stu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is d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d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card che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rafts of paper and one final due during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or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chool--</a:t>
            </a:r>
            <a:r>
              <a:rPr b="0" lang="en-US" sz="2400" spc="-1" strike="noStrike">
                <a:solidFill>
                  <a:srgbClr val="000000"/>
                </a:solidFill>
                <a:latin typeface="Times New Roman"/>
                <a:ea typeface="Times New Roman"/>
              </a:rPr>
              <a:t>should serve as a cheerleader.  He/she is there to support you and cheer you on in this process.  Since you see this person on a daily basis, he/she should be able to help you with your deadlines, paper, and projec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t of school--should be the person who will teach you the most about your project.  He/she should be very knowledgeable in the field and be able to help you in ways that your </a:t>
            </a:r>
            <a:r>
              <a:rPr b="0" i="1" lang="en-US" sz="2400" spc="-1" strike="noStrike">
                <a:solidFill>
                  <a:srgbClr val="000000"/>
                </a:solidFill>
                <a:latin typeface="Times New Roman"/>
                <a:ea typeface="Times New Roman"/>
              </a:rPr>
              <a:t>In-School Mentor</a:t>
            </a:r>
            <a:r>
              <a:rPr b="0" lang="en-US" sz="2400" spc="-1" strike="noStrike">
                <a:solidFill>
                  <a:srgbClr val="000000"/>
                </a:solidFill>
                <a:latin typeface="Times New Roman"/>
                <a:ea typeface="Times New Roman"/>
              </a:rPr>
              <a:t> cannot.  Your </a:t>
            </a:r>
            <a:r>
              <a:rPr b="0" i="1" lang="en-US" sz="2400" spc="-1" strike="noStrike">
                <a:solidFill>
                  <a:srgbClr val="000000"/>
                </a:solidFill>
                <a:latin typeface="Times New Roman"/>
                <a:ea typeface="Times New Roman"/>
              </a:rPr>
              <a:t>Out of School Mentor</a:t>
            </a:r>
            <a:r>
              <a:rPr b="0" lang="en-US" sz="2400" spc="-1" strike="noStrike">
                <a:solidFill>
                  <a:srgbClr val="000000"/>
                </a:solidFill>
                <a:latin typeface="Times New Roman"/>
                <a:ea typeface="Times New Roman"/>
              </a:rPr>
              <a:t> cannot be someone who works at the school.</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2200" y="609480"/>
            <a:ext cx="4153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Nets for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Nets for Stu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 and lowest grades discarded.  Rest averag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lass pract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in front of 6</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rs at 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workshop held for students at B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Nets for Scho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 Contac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to parents at start with timeline and requirem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l Consent For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to parents if paper deadlines not m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ion at end of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emester, we reflect on the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year, we rework the handbook to fix any issues, make any changes for requirements, or delete any unnecessary pa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role at RH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ior Project Coordina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jud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quipment for present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rooms for present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ent jud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celeb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role at BH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students and teachers as Media Coordinato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in how to utilize school media center online and in-print resour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in MLA format procedur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 of needed sources not available in school media cent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Support prior to and during evening of formal presen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n our student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of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eer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ing tal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n our Community</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tudents chance to be productive citize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build for our commun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munity to see students in a different l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rding to NCDP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ially called NC Graduation Projects by NCDP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performance-based exit assessment that provides students with a vehicle to demonstrate their knowledge and skills as they prepare to graduate from high school.”</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ncpublicschools.org/graduationprojec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ler, class of 2006</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ior project was an amazing opportunity that helped me learn more about myself, what I am interested in, and my community.  It gave me the opportunity to spend a few months on a subject I really loved and  wanted to learn more about.  It also gave me the chance to meet folks from my community that had impacted the lives of others and, in turn, impacted my lif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ly, class of 2008</a:t>
            </a:r>
            <a:endParaRPr b="0" lang="en-US" sz="4400" spc="-1" strike="noStrike">
              <a:solidFill>
                <a:srgbClr val="000000"/>
              </a:solidFill>
              <a:latin typeface="Times New Roman"/>
            </a:endParaRPr>
          </a:p>
        </p:txBody>
      </p:sp>
      <p:sp>
        <p:nvSpPr>
          <p:cNvPr id="92" name="PlaceHolder 2"/>
          <p:cNvSpPr>
            <a:spLocks noGrp="1"/>
          </p:cNvSpPr>
          <p:nvPr>
            <p:ph/>
          </p:nvPr>
        </p:nvSpPr>
        <p:spPr>
          <a:xfrm>
            <a:off x="0" y="1980720"/>
            <a:ext cx="5029200" cy="4496040"/>
          </a:xfrm>
          <a:prstGeom prst="rect">
            <a:avLst/>
          </a:prstGeom>
          <a:noFill/>
          <a:ln w="0">
            <a:noFill/>
          </a:ln>
        </p:spPr>
        <p:txBody>
          <a:bodyPr lIns="90000" rIns="90000" tIns="46800" bIns="46800" anchor="t">
            <a:normAutofit/>
          </a:bodyPr>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Before my topic was even concrete about what I wanted to do…I went to Library Mary [media assistant] and Mrs. Huskins [media coordinator] and asked them who I should talk to about working with peer pressure.  They pointed me in the direction of Stacey Bubenzer [school guidance counselor] who became my mentor.  Meeting her and learning from her has made this process so much easi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r. Tinsley [English IV teacher] has taught me many helpful organization techniques to ensure my paper will be awesome.  Without him, my mentor and the library ladies, I would be so stressed out throughout this proces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3"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tany, class of 2008</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0720"/>
            <a:ext cx="3809880" cy="44960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 feel so fortunate that I had the opportunity to do my project as well as enter it into a national competition!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 feel that the skills that I have learned from this project will surely help me in the future.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earning a new skill, researching it, and getting out of my comfort zone truly helped me as a person and I believe that these skills will continue to help me in college and in life.</a:t>
            </a:r>
            <a:endParaRPr b="0" lang="en-US" sz="18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i, class of 2008</a:t>
            </a:r>
            <a:endParaRPr b="0" lang="en-US" sz="4400" spc="-1" strike="noStrike">
              <a:solidFill>
                <a:srgbClr val="000000"/>
              </a:solidFill>
              <a:latin typeface="Times New Roman"/>
            </a:endParaRPr>
          </a:p>
        </p:txBody>
      </p:sp>
      <p:sp>
        <p:nvSpPr>
          <p:cNvPr id="98" name="PlaceHolder 2"/>
          <p:cNvSpPr>
            <a:spLocks noGrp="1"/>
          </p:cNvSpPr>
          <p:nvPr>
            <p:ph/>
          </p:nvPr>
        </p:nvSpPr>
        <p:spPr>
          <a:xfrm>
            <a:off x="228600" y="1523520"/>
            <a:ext cx="5029200" cy="48006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y senior project experience has been [over all] positive…I’m learning by doing and that helps me know that my education means something.  I get to meet and work with  great people in my community who really believe in me and want me to succeed.  It’s refreshing to have someone invest their personal time and care into a teenager that they don’t even know.</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 am learning things that I don’t really even realize I’m learning…I’ve formed a bond with my mentor and her group that I ‘m sure will stand forever.</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 have proved myself worthy and capable of being a functional member of society by doing this project all for myself…</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9" name="" descr=""/>
          <p:cNvPicPr/>
          <p:nvPr/>
        </p:nvPicPr>
        <p:blipFill>
          <a:blip r:embed="rId1"/>
          <a:srcRect l="803" t="0" r="8002" b="0"/>
          <a:stretch/>
        </p:blipFill>
        <p:spPr>
          <a:xfrm>
            <a:off x="5410080" y="2438280"/>
            <a:ext cx="3505320" cy="28828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ly, Class of 2009</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want my Senior Project to make a difference.  I would like to try and help people who are less fortunate.  It’s going to be a good learning experience, and I’m pretty excited about it.  It’s going to be a lot of hard work, but it will all be worth it in the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transylvania.k12.nc.us/schools/rhs/seniorprojects/index.h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transylvania.k12.nc.us/schools/srproject/home.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has to complete a Project?</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with the ninth grade class of 2006, all North Carolina students must complete a graduation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means, you have only a few years to get go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requiremen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s of four pa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search pape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n oral present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makes ours great?</a:t>
            </a:r>
            <a:endParaRPr b="0" lang="en-US" sz="4400" spc="-1" strike="noStrike">
              <a:solidFill>
                <a:srgbClr val="000000"/>
              </a:solidFill>
              <a:latin typeface="Times New Roman"/>
            </a:endParaRPr>
          </a:p>
        </p:txBody>
      </p:sp>
      <p:sp>
        <p:nvSpPr>
          <p:cNvPr id="52" name="PlaceHolder 2"/>
          <p:cNvSpPr>
            <a:spLocks noGrp="1"/>
          </p:cNvSpPr>
          <p:nvPr>
            <p:ph/>
          </p:nvPr>
        </p:nvSpPr>
        <p:spPr>
          <a:xfrm>
            <a:off x="1142640" y="2819160"/>
            <a:ext cx="7010280" cy="32763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ots of practice!</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at RH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3-rumors of state required proje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4-attended the Far West Edge worksho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6-began process with 5 hours required work</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at BH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 since 199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collaborated with RHS in establishing procedures and improvement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ior Projects became a graduation requirement in Transylvania County with the graduating class of 200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star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Everyone must buy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16:30:28Z</dcterms:created>
  <dc:creator>sjustice</dc:creator>
  <dc:description/>
  <dc:language>en-US</dc:language>
  <cp:lastModifiedBy>Barbara Vogt</cp:lastModifiedBy>
  <dcterms:modified xsi:type="dcterms:W3CDTF">2009-05-03T15:30:22Z</dcterms:modified>
  <cp:revision>34</cp:revision>
  <dc:subject/>
  <dc:title>How to Make Your Senior Projects GREAT!</dc:title>
</cp:coreProperties>
</file>